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41396-C993-410E-8D25-679DF92B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32BC-CC6F-446A-A8DA-C97F8E59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E4DD-450B-416E-A0EA-63B35A9E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C338-1A3D-486A-BE99-36CB0F88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80D4-9384-4A6D-B588-4742D3BE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BEFD-8151-4F13-8947-CA148728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3942-11E7-4A53-A1F5-722722AA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7736-A2EB-4D23-9609-112A38D9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C218-CB60-4A92-BFEC-02286058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4B5D-01A3-4A4A-BC4C-4DA923F5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0E74-D39A-49F3-9C2E-A67ABD24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37A0C-3006-47AB-BB61-9932BF15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DFF0-B8EC-4F15-AF5E-1A3F8DCF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F21D-03B5-4D82-9C4C-69CDB930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4FFF-A389-4A32-A3B1-3AB4010F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E9E9-7914-4CF4-9212-A442CC08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8F60-E631-48CE-962D-24E88065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9D286-204B-4F88-9F15-FCE2FA8E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D437-F191-4BA8-BEBE-9C68E3C6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6BFC-7A7D-4A32-BC19-9A7C048E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165B-E057-4BC8-960E-3D3DCDB8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D2245-3C02-4D8A-A4C8-D6315F00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58441-1ECA-40C2-914F-D71B9333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C59E-84B3-47E7-8FD0-0BE7AD82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9B17-735C-4578-9795-D70FEAC6F6E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8749-F3D2-4E80-9DCC-22AFA40F0D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676160" y="28191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3913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95280" y="2362320"/>
            <a:ext cx="655344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ff33"/>
                </a:solidFill>
                <a:latin typeface="Rockwell"/>
              </a:rPr>
              <a:t> </a:t>
            </a:r>
            <a:r>
              <a:rPr b="1" lang="en-US" sz="6600" spc="-1" strike="noStrike">
                <a:solidFill>
                  <a:srgbClr val="98f917"/>
                </a:solidFill>
                <a:latin typeface="Rockwell"/>
              </a:rPr>
              <a:t>Las Comid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f917"/>
                </a:solidFill>
                <a:latin typeface="Rockwell"/>
              </a:rPr>
              <a:t>A Spanish PowerPoint by: Caitlin</a:t>
            </a:r>
            <a:r>
              <a:rPr b="1" lang="en-US" sz="2800" spc="-1" strike="noStrike">
                <a:solidFill>
                  <a:srgbClr val="99ff66"/>
                </a:solidFill>
                <a:latin typeface="Rockwell"/>
              </a:rPr>
              <a:t> </a:t>
            </a:r>
            <a:r>
              <a:rPr b="1" lang="en-US" sz="2800" spc="-1" strike="noStrike">
                <a:solidFill>
                  <a:srgbClr val="98f917"/>
                </a:solidFill>
                <a:latin typeface="Rockwell"/>
              </a:rPr>
              <a:t>Keave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0880" y="228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esayuno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8600" y="1879560"/>
            <a:ext cx="2133720" cy="1419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7010280" y="1905120"/>
            <a:ext cx="1981440" cy="1474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743200" y="1905120"/>
            <a:ext cx="2057400" cy="1369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2819520" y="41148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4724280" y="4075200"/>
            <a:ext cx="1676520" cy="1582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6781680" y="4038480"/>
            <a:ext cx="205740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52005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676520" y="1676520"/>
            <a:ext cx="1685880" cy="1519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962520" y="1752480"/>
            <a:ext cx="1676160" cy="1494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400800" y="2362320"/>
            <a:ext cx="1397160" cy="1947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4114800" y="3733920"/>
            <a:ext cx="1600200" cy="1438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15244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965160" cy="3009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895480" y="3048120"/>
            <a:ext cx="2562480" cy="1780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486400" y="2895480"/>
            <a:ext cx="2685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2067120" cy="2219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895480" y="1600200"/>
            <a:ext cx="2467080" cy="2133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943600" y="1600200"/>
            <a:ext cx="1886040" cy="2419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2590920" y="4038480"/>
            <a:ext cx="2361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2:38:12Z</dcterms:created>
  <dc:creator>keavenycai</dc:creator>
  <dc:description/>
  <dc:language>en-US</dc:language>
  <cp:lastModifiedBy>keavenycai</cp:lastModifiedBy>
  <dcterms:modified xsi:type="dcterms:W3CDTF">2012-04-03T16:04:13Z</dcterms:modified>
  <cp:revision>6</cp:revision>
  <dc:subject/>
  <dc:title>Slide 1</dc:title>
</cp:coreProperties>
</file>